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7644D-63FE-4436-B53C-3989F35858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9B0A9-AA4D-41E2-A8E6-F7336AA93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1DB3E-5B6E-4FE7-9689-4F6630C5B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9DC36-5EA3-42F2-8F1A-8A2851488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F42EAE-0264-4206-B5F5-9E8821FDF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037D-05F5-473D-85FA-180ECFB1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0F58-0C01-44DE-987D-81BB9E59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0A0-8ADC-42AD-A0DF-3E53946D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67C-6669-4F4F-9A24-2B013E5E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E8B7-F11A-4C72-A772-72ED8367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3E7C-B3D1-4AB2-9743-D4F6FAE2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1B4C-042C-4610-B4BB-0969E7F8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EE4C-E3B1-49C8-A440-6CBE63A8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BE94-2362-4D19-873E-EC53671E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0935-927D-4EFD-8318-0E0A2C4B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9870-E814-468D-9DB6-C1A47670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F81-6A44-430A-AB9A-97B71C3E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2B75-7771-49BD-934B-C8B02D35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B643-0732-4743-8C11-E8C9BBBA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D1E6-7802-48E3-9D7A-536A462D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E18D-A9D6-46ED-9BBC-B14EF3EE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7A8C-1896-4195-BB32-D988080E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988D1-6CD7-4902-AE73-47850A90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44987-DC8A-45A4-98B3-164E8CDC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45571-31FD-494D-83A9-C8B38AC0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050CB-A79B-4708-B271-7403610C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7BF25-BCEE-4233-BA39-F86ACFFD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9534-6A43-4369-A405-FFD4F244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9C103-98F1-4184-AC4B-79F8639E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A1FD7-BE64-4592-A702-A0965097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C0E11-0446-4B85-A61C-FEA6C5A9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B49CEC-9D8E-42EC-ACE1-BA3BF7DB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8654F-03C4-45B2-AFCE-14128AE6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BEFEF-D923-463A-8D69-48ACD209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9D8B5-1E1F-4F0B-8D5D-A841F984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65078-64D9-4A0A-9B38-3C01D5AB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55854-DB21-4378-BF1E-D93892C0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2557C-C470-4433-B3D8-D3F03C89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CE4-3E77-48C9-8490-3B8CEA05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B66CE-CD6A-4032-AB9C-A0E627AB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68653-3487-4C5F-8BFD-ED702E3D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96EC6-4A31-4C7D-8D3E-1D228558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BDEE5-3D8C-4485-93E3-2DFD1C05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73F96-C6C7-4E3C-AC86-FC9422F6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1AC12-2790-4E98-B3EA-195244DF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CFC4E-47C3-49F1-958C-E383BCB7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90500-906A-46F1-A2BE-96EA88C4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5CF91-4470-4000-9B2E-DA3A4B0D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75BEF7-AB47-4974-ADC3-5C0B5788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5606-196D-4A32-9C35-47E5A683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829265-668D-4F6E-B423-399ADB67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CB654C-9CE0-4718-B986-AB612CA8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150F25-E825-4C1D-8E36-FC95B1C0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0C75E7-4BEB-492B-A899-641A6061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0C9557-DE09-4EA5-B9D7-2013346A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C95247-5F86-446C-8152-B69C170B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40383F-4F71-4204-A995-4A6A3673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70BBDB-9F6E-4252-B9BE-D331A980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BBD82-0E6A-4ED8-BC76-14F61B89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CB5B4-6567-4AFE-AEA5-EE5C58C5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57B-F458-4688-A5BA-489513D3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5FCCA5-1118-4782-98A5-67DA1882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728C38-8924-429D-AE6B-7BA44CE2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3CBAE2-D479-4BBA-8668-A2AA303F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DE06D-C069-472E-8CCA-70A37774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1063A5-545E-4EB0-A77D-C8CF2B2E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23897-E0F9-4072-9E62-39BFC406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43F50D-4E90-4D81-939D-76106D17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B54A11-2804-4817-8EF2-6F52E2BD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1E56F-ABBB-4377-9BF7-11F7D95C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3EF08C-168F-477F-BC1C-9EE210F4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53C-6D6C-4A99-9044-CF99B61E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73A6BB-80AB-4EC4-9E3C-C14C465B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54E9C2-60E9-45FE-B395-71FE18AB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E5B1AF-A6A6-4176-8A31-A469232A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F941A4-D088-4C62-A45E-62CA513F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AFDB09-7262-4FC1-B3FC-3EA822CD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84BF20-783C-4665-B66C-CD46A9C2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9C29E5-A45D-49E0-BF1E-CEAB991C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A3961A-1605-43CE-BC82-0E44F7CC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152769-27A6-4C03-A471-508E3BA7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F0AAA9-427E-44CD-9D54-F0818955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3AB-0EB4-4D73-80C3-FE6C6F27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955983-F4F0-4737-BF5C-B8300F02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0A96F0-166C-4919-B23E-904A3C41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11720D-3983-4BB9-86F5-F13DC925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4B8AF3-D8CE-4884-8BE8-20A2CF56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9223AF-051A-45E1-8527-B8022C69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AB24-4306-40C7-B006-97EBABE6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4F616-4655-42AC-A506-823B03928971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6C23D-2016-4A8F-800A-821D2787012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8612C-92B5-43E8-A406-36EB27F7500A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9D147-ADDD-4DEA-8CCC-8AB297CB7C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177302-42D4-4268-BD8F-EF912838B4A9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F96A9-802C-4408-B2A1-82F76C703B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23993-28E1-4F5A-8671-CC906E509975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61FF11-7DAF-4584-B208-C9026E20E7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9CEFD-D4C1-455E-8C95-CE258B9F25A7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435C9-0EE5-4A00-BF80-381758A877B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68597-AAA4-48EA-99B4-A8BF37E1C56A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3FC33-4395-41ED-B616-3514281F0F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40DC3-2728-4600-8F47-1CC0A08D3182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2BE01-5377-4CF2-AC18-2A3CA88B46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WEB-BASED BIOINFORMATICS PIPELINES FOR BIOLOGIS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ntegrative Services for Genomic Analysis (ISGA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hris Hemmeri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enter for Genomics and Bioformatic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ONTACT: biohelp@cgb.indiana.edu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GOA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Content Placeholder 3" descr="new-usage.eps"/>
          <p:cNvPicPr/>
          <p:nvPr/>
        </p:nvPicPr>
        <p:blipFill>
          <a:blip r:embed="rId1"/>
          <a:srcRect l="0" t="-565" r="0" b="-565"/>
          <a:stretch/>
        </p:blipFill>
        <p:spPr>
          <a:xfrm>
            <a:off x="457200" y="1600200"/>
            <a:ext cx="74674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ISGA: WHIRLWIND TOU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247680" y="0"/>
            <a:ext cx="8039160" cy="68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IPELINE CUSTOMIZ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toggle some clusters on/off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me clusters contain parallel programs that can be independently toggl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edit component parame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save customizations to use with later data se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IPELINE BUILD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5" name="Picture 4" descr="Screen shot 2010-01-14 at 10.01.40 AM.png"/>
          <p:cNvPicPr/>
          <p:nvPr/>
        </p:nvPicPr>
        <p:blipFill>
          <a:blip r:embed="rId1"/>
          <a:stretch/>
        </p:blipFill>
        <p:spPr>
          <a:xfrm>
            <a:off x="0" y="1417680"/>
            <a:ext cx="91440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UN STATU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6" descr="Screen shot 2010-01-14 at 10.03.31 AM.png"/>
          <p:cNvPicPr/>
          <p:nvPr/>
        </p:nvPicPr>
        <p:blipFill>
          <a:blip r:embed="rId1"/>
          <a:stretch/>
        </p:blipFill>
        <p:spPr>
          <a:xfrm>
            <a:off x="0" y="1079640"/>
            <a:ext cx="90043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 PIPELINE EXEC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writes configuration and pipeline definition files to the Ergatis install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then triggers execution through Ergatis and receives the pipeline id in retur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tus is updated directly from Ergatis XML fi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lected output is copied to ISGA, and the rest is available for download if need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 TOOLBOX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ludes a GBrowse instance for visualizing annotation resul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AST support for pipeline results as query or data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xt search against annotation resul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ols can be executed over SGE and monitor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DMINISTRATIVE TOO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ghtly monitor status in ISGA w/ link to Ergatis   p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tification when pipeline fails, ISGA will pick up a resumed pipe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redirect ISGA to a cloned Ergatis pipeline or cancel (w/ user notificatio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sable new job submiss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NDER THE HOO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1255680" y="3633840"/>
            <a:ext cx="5791320" cy="2895480"/>
          </a:xfrm>
          <a:prstGeom prst="rect">
            <a:avLst/>
          </a:prstGeom>
          <a:solidFill>
            <a:srgbClr val="fff39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1255680" y="1424160"/>
            <a:ext cx="5718240" cy="1914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 flipH="1" flipV="1">
            <a:off x="4760640" y="4776480"/>
            <a:ext cx="222120" cy="22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3998880" y="3328920"/>
            <a:ext cx="0" cy="29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0"/>
          <p:cNvSpPr/>
          <p:nvPr/>
        </p:nvSpPr>
        <p:spPr>
          <a:xfrm>
            <a:off x="3922560" y="531036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1640160" y="1881360"/>
            <a:ext cx="1875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peline build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ome brow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 pip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st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3"/>
          <p:cNvSpPr/>
          <p:nvPr/>
        </p:nvSpPr>
        <p:spPr>
          <a:xfrm>
            <a:off x="5711760" y="199548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2666880" y="149400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GA Web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26"/>
          <p:cNvGrpSpPr/>
          <p:nvPr/>
        </p:nvGrpSpPr>
        <p:grpSpPr>
          <a:xfrm>
            <a:off x="1484280" y="5005440"/>
            <a:ext cx="2597040" cy="983520"/>
            <a:chOff x="1484280" y="5005440"/>
            <a:chExt cx="2597040" cy="983520"/>
          </a:xfrm>
        </p:grpSpPr>
        <p:sp>
          <p:nvSpPr>
            <p:cNvPr id="406" name="Rectangle 5"/>
            <p:cNvSpPr/>
            <p:nvPr/>
          </p:nvSpPr>
          <p:spPr>
            <a:xfrm>
              <a:off x="1484280" y="5005440"/>
              <a:ext cx="2597040" cy="966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5"/>
            <p:cNvSpPr/>
            <p:nvPr/>
          </p:nvSpPr>
          <p:spPr>
            <a:xfrm>
              <a:off x="1523880" y="5377320"/>
              <a:ext cx="20653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oinformatics too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 and resul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7"/>
            <p:cNvSpPr/>
            <p:nvPr/>
          </p:nvSpPr>
          <p:spPr>
            <a:xfrm>
              <a:off x="1524960" y="5034240"/>
              <a:ext cx="196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hared 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4"/>
          <p:cNvSpPr/>
          <p:nvPr/>
        </p:nvSpPr>
        <p:spPr>
          <a:xfrm>
            <a:off x="3983040" y="1944720"/>
            <a:ext cx="2746440" cy="121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4073040" y="1944720"/>
            <a:ext cx="27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greSQ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4074480" y="2338560"/>
            <a:ext cx="218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peline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otation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29"/>
          <p:cNvGrpSpPr/>
          <p:nvPr/>
        </p:nvGrpSpPr>
        <p:grpSpPr>
          <a:xfrm>
            <a:off x="2855880" y="3786120"/>
            <a:ext cx="2450880" cy="965160"/>
            <a:chOff x="2855880" y="3786120"/>
            <a:chExt cx="2450880" cy="965160"/>
          </a:xfrm>
        </p:grpSpPr>
        <p:sp>
          <p:nvSpPr>
            <p:cNvPr id="413" name="Rectangle 7"/>
            <p:cNvSpPr/>
            <p:nvPr/>
          </p:nvSpPr>
          <p:spPr>
            <a:xfrm>
              <a:off x="2855880" y="3786120"/>
              <a:ext cx="2450880" cy="965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0"/>
            <p:cNvSpPr/>
            <p:nvPr/>
          </p:nvSpPr>
          <p:spPr>
            <a:xfrm>
              <a:off x="3210840" y="4110120"/>
              <a:ext cx="1945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ML configu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orkflow eng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21"/>
            <p:cNvSpPr/>
            <p:nvPr/>
          </p:nvSpPr>
          <p:spPr>
            <a:xfrm>
              <a:off x="3598560" y="378612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gat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Rectangle 6"/>
          <p:cNvSpPr/>
          <p:nvPr/>
        </p:nvSpPr>
        <p:spPr>
          <a:xfrm>
            <a:off x="4379760" y="5005440"/>
            <a:ext cx="2451240" cy="965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2"/>
          <p:cNvSpPr/>
          <p:nvPr/>
        </p:nvSpPr>
        <p:spPr>
          <a:xfrm>
            <a:off x="4602240" y="501804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 Grid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4610520" y="538632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ation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schedu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161160" y="607212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GA Bac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0"/>
          <p:cNvSpPr/>
          <p:nvPr/>
        </p:nvSpPr>
        <p:spPr>
          <a:xfrm flipV="1">
            <a:off x="3160080" y="4776480"/>
            <a:ext cx="222120" cy="22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STIFICATION AND HISTO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NDER THE HOOD (CONTINUED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l &amp; jQu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sistence = PostgreSQL &amp; YAML &amp; X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so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sonX::WebAp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cked up HTML::FormEng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DDING AN ERGATIS PIPELINE TO ISG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039160" cy="68119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4"/>
          <p:cNvSpPr/>
          <p:nvPr/>
        </p:nvSpPr>
        <p:spPr>
          <a:xfrm>
            <a:off x="5865840" y="0"/>
            <a:ext cx="32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4 Ergatis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IRST: UNDERSTAND THE PIPELIN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takes a description of an Ergatis pipe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YAM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tabase Schem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rgatis component .config fi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cument input and output of all compon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ich components are optional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user can upload previously generated data in their stead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lternative data from the pipeline can be used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pipeline is still useful without this functional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IMPLIFIC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ur microbial annotation pipeline is composed of 64 Ergatis compon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mpossible to diagram for you on a slide or for  a biologist on our web pag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y of these components are file format conversions, program iterations, database preparation, etc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y are not relevant to a high level view of the pipeline and offer no useful parameters for a biologist to customiz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USTERS OF ERGATIS COMPON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822960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reak the pipeline into biologically meaningful clusters of one or more component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is is as much art as science, may depend on your audie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ample: ‘Alternative Start Site Analysis’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3" name="TextBox 3" descr=""/>
          <p:cNvPicPr/>
          <p:nvPr/>
        </p:nvPicPr>
        <p:blipFill>
          <a:blip r:embed="rId1"/>
          <a:stretch/>
        </p:blipFill>
        <p:spPr>
          <a:xfrm>
            <a:off x="450720" y="4309920"/>
            <a:ext cx="82425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MPONENT CUSTOMIZ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cripts and XML files are unchang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stores the configuration template for each compon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onents with editable parameters have a YAML definition that is used to build the web for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se values are incorporated into the configuration templ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MPONENT TEMPL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-- !perl/ISGA::ComponentBuild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ame: RNAmmer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scription: ‘RNAmmerpredicts 5s/8s, 16s/18s, and …’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arams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 { templ: 'select', NAME: 'molecules', TITLE: 'rRNA Molecules', REQUIRED: 1, OPTION: ['ssu (5/8s rRNA)', 'lsu (16 /18s rRNA)', 'tsu (23/28s rRNA)', 'ssu and lsu', …], OPT_VAL: ['ssu' , 'lsu', 'tsu', 'ssu,lsu’, …], VALUE: 'ssu,lsu,tsu', DESCRIPTION: 'Declare what rRNA molecule types to search for.', </a:t>
            </a:r>
            <a:r>
              <a:rPr b="0" lang="en-US" sz="2200" spc="-1" strike="noStrike">
                <a:solidFill>
                  <a:srgbClr val="0000ff"/>
                </a:solidFill>
                <a:latin typeface="Century Schoolbook"/>
              </a:rPr>
              <a:t>CONFIGLINE: '___molecule___’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unBuilderParams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 { templ: 'hidden', NAME: 'project_id_root', TITLE: 'Project Id Root', REQUIRED: 1, DESCRIPTION: 'The Id root used in bsml id generation', </a:t>
            </a:r>
            <a:r>
              <a:rPr b="0" lang="en-US" sz="2200" spc="-1" strike="noStrike">
                <a:solidFill>
                  <a:srgbClr val="0000ff"/>
                </a:solidFill>
                <a:latin typeface="Century Schoolbook"/>
              </a:rPr>
              <a:t>CONFIGLINE: '___project_id_root___'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UTURE ISGA 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orporate additional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mall prokaryotic assembly pipelin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arative genom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unctional genom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d additional featu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ke pipelines modular components of ISG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mplement pipeline version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ipeline and data shar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rgatis Cloud Suppor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2" name="Picture 4" descr="Chris_Hemmerich"/>
          <p:cNvPicPr/>
          <p:nvPr/>
        </p:nvPicPr>
        <p:blipFill>
          <a:blip r:embed="rId1"/>
          <a:stretch/>
        </p:blipFill>
        <p:spPr>
          <a:xfrm>
            <a:off x="2209680" y="2666880"/>
            <a:ext cx="1462320" cy="18273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Aaron_Buechlein"/>
          <p:cNvPicPr/>
          <p:nvPr/>
        </p:nvPicPr>
        <p:blipFill>
          <a:blip r:embed="rId2"/>
          <a:stretch/>
        </p:blipFill>
        <p:spPr>
          <a:xfrm>
            <a:off x="457200" y="2666880"/>
            <a:ext cx="1417680" cy="18306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Qunfeng_Dong"/>
          <p:cNvPicPr/>
          <p:nvPr/>
        </p:nvPicPr>
        <p:blipFill>
          <a:blip r:embed="rId3"/>
          <a:stretch/>
        </p:blipFill>
        <p:spPr>
          <a:xfrm>
            <a:off x="7162920" y="2666880"/>
            <a:ext cx="1461960" cy="182880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8"/>
          <p:cNvSpPr/>
          <p:nvPr/>
        </p:nvSpPr>
        <p:spPr>
          <a:xfrm>
            <a:off x="7089840" y="47242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nfeng D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3746160" y="472428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shi Reva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1984320" y="510552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Hemme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156240" y="47242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ron Buechl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2" descr="Ram"/>
          <p:cNvPicPr/>
          <p:nvPr/>
        </p:nvPicPr>
        <p:blipFill>
          <a:blip r:embed="rId4"/>
          <a:stretch/>
        </p:blipFill>
        <p:spPr>
          <a:xfrm>
            <a:off x="5562720" y="2666880"/>
            <a:ext cx="1434960" cy="182268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13"/>
          <p:cNvSpPr/>
          <p:nvPr/>
        </p:nvSpPr>
        <p:spPr>
          <a:xfrm>
            <a:off x="5565960" y="51055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m Podich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6" descr="Kashi_Vishwanath_Revanna"/>
          <p:cNvPicPr/>
          <p:nvPr/>
        </p:nvPicPr>
        <p:blipFill>
          <a:blip r:embed="rId5"/>
          <a:stretch/>
        </p:blipFill>
        <p:spPr>
          <a:xfrm>
            <a:off x="3886200" y="2666880"/>
            <a:ext cx="15303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 BACKGROUN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rovide a high-throughput microbial annotation service to local biologis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Reliable and pipelined execu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Efficient maintena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Provide privacy and security for dat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gh-quality (automated) annot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iologists able to customize paramet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ble to incorporate new programs and pipeli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ERGATIS (ERGATIS.SOURCEFORGE.NET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4880"/>
            <a:ext cx="82281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eb-based analysis pipeline to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raps tools and utilities in “component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bility to add new compon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Build new and customize existing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n-depth monitoring of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Underlying Workflow package supports S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XML/BSML common data exchange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ncludes prokaryotic annotation pipe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RGATIS WORKFLOW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Content Placeholder 6" descr="ergatis-dia1.eps"/>
          <p:cNvPicPr/>
          <p:nvPr/>
        </p:nvPicPr>
        <p:blipFill>
          <a:blip r:embed="rId1"/>
          <a:srcRect l="0" t="-16380" r="54685" b="-16380"/>
          <a:stretch/>
        </p:blipFill>
        <p:spPr>
          <a:xfrm>
            <a:off x="2471760" y="1600200"/>
            <a:ext cx="33843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 SLIGHT CORR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Content Placeholder 4" descr="ergatis-dia1.eps"/>
          <p:cNvPicPr/>
          <p:nvPr/>
        </p:nvPicPr>
        <p:blipFill>
          <a:blip r:embed="rId1"/>
          <a:srcRect l="44693" t="-16380" r="0" b="-16380"/>
          <a:stretch/>
        </p:blipFill>
        <p:spPr>
          <a:xfrm>
            <a:off x="2260440" y="1600200"/>
            <a:ext cx="4131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Y NOT EXPOSE ERGAT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sufficient accounts and permiss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red interface for building and customizing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rs must submit and retrieve results through filesyst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ipeline monitoring interface is slow and complex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formation of use to biologists is lost in “nois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igh umber of components in a pipelin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lexity of configuration interfa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503360" y="0"/>
            <a:ext cx="67914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2"/>
          <p:cNvSpPr/>
          <p:nvPr/>
        </p:nvSpPr>
        <p:spPr>
          <a:xfrm>
            <a:off x="1503360" y="1801800"/>
            <a:ext cx="6791400" cy="1230480"/>
          </a:xfrm>
          <a:prstGeom prst="rect">
            <a:avLst/>
          </a:prstGeom>
          <a:solidFill>
            <a:srgbClr val="ff0000">
              <a:alpha val="13000"/>
            </a:srgbClr>
          </a:solidFill>
          <a:ln w="12600">
            <a:solidFill>
              <a:srgbClr val="ff6903"/>
            </a:solidFill>
            <a:miter/>
          </a:ln>
          <a:effectLst>
            <a:outerShdw dist="20160" dir="54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UR SOL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velop an alternative interface for biologists that uses the Ergatis backe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dministrators also use Ergati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interface featu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ccounts and permission syst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ile manage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implify pipelines and component management by reducing functional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ovide form validation, documentation and other features to improve usabil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4419720" y="3378240"/>
            <a:ext cx="304560" cy="1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19:32Z</dcterms:created>
  <dc:creator>Chris</dc:creator>
  <dc:description/>
  <dc:language>en-US</dc:language>
  <cp:lastModifiedBy>Chris</cp:lastModifiedBy>
  <dcterms:modified xsi:type="dcterms:W3CDTF">2010-01-15T23:15:04Z</dcterms:modified>
  <cp:revision>12</cp:revision>
  <dc:subject/>
  <dc:title>Slide 1</dc:title>
</cp:coreProperties>
</file>